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867-57F0-4275-A371-3361B135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29A-0CFC-45B1-9D8D-300DD80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2D8-E17C-450D-9952-0A353F6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37B-FD84-4CFE-803B-08FEFB72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F39-DDE7-44EF-8239-FA4FCD2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B72-1005-406A-90F0-875EF749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178-A7CF-4659-9225-09278ED2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F14-8420-4502-8784-CB58948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BD3-79C1-4219-B48C-BBA8F7F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3EA-3AA1-4F73-A016-1D58357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EF1-B47E-4F7F-862A-A5E701D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0B6-EF26-4AF8-9D6E-96A70E1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21A1-8341-4371-8053-CE89E60D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’re dreaming of a Happy Christmas  everybody has a happ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r draws to an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enemies becom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ve embraces the human ra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pe this dream comes 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rry Christm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 of 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Greek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09:39Z</dcterms:created>
  <dc:creator>5o DHMOTIKO AMAROUSIOU</dc:creator>
  <dc:description/>
  <dc:language>en-US</dc:language>
  <cp:lastModifiedBy>5o DHMOTIKO AMAROUSIOU</cp:lastModifiedBy>
  <dcterms:modified xsi:type="dcterms:W3CDTF">2011-12-12T12:22:32Z</dcterms:modified>
  <cp:revision>3</cp:revision>
  <dc:subject/>
  <dc:title>Διαφάνεια 1</dc:title>
</cp:coreProperties>
</file>